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88F-4E1D-49A2-B499-B38AE132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AA1-AD15-4911-BFCE-A242CE9D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782B9-3747-4B27-A321-517CC56A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5AFC7-16D8-4726-BF40-EFAAEF63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975A9-D78C-4972-80A0-ACE1FCDF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D2C07-0839-43FD-9A49-833FF54A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DB479-B140-40C2-B36B-7970591B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CDC2C-3874-4B13-9142-966D8EBB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65F3D-4F03-436F-8E3E-5F43C7F3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9335B-1233-4C70-8597-B27BC2D8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1EE01-1B62-4968-8AF4-5324AEA0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2E059-D469-4F20-ADB0-F92C6C50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B6A-70A5-41C5-8A04-6C50829B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68333-9067-49BF-A717-52F34B1A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2B2D0-4BD2-46FE-8254-77073B01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B05CB-61A1-45E8-8F67-0DF6C374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3B877-48E2-4C84-8320-4596C293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EDFCE-2344-455F-8961-32593283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CBFA0-089F-4F58-BB64-85E6A8AA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72E99-EC8A-43E1-A903-F7A676DD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10C97-94AB-4165-A195-0955A843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4CDC1-DB0E-4725-8836-F593B160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C0CFE-1F19-4879-A16E-9F344F7F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A47-C782-4B7E-BD02-A9E7DC08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AD4AD-62AC-49AF-98FD-F3FA5131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B89B9-1FCC-4227-A5ED-AF7AC2B4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82684-71CD-412C-B1FD-C808A2B5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89953-7426-4744-98B5-B45EE216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B32C1-1299-4880-ACBB-6DFAA63D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28277-975B-4B9E-8BC9-94D6DC2F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749C9-0D38-4810-A3B9-556D014C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E8164-DB03-42A7-896B-AB7A630E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C551C-33C1-4893-BECC-CA4C98D5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C5C1F-E063-4CD2-A459-C9CA2C75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00C7-7BFB-4888-AE52-B87638D3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4A27C-83B9-4B26-9DF9-5DDB5BC4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0090F-1370-4E00-8419-D5C11298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2FC56-8FA4-42A0-95A2-0C06FA29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A511C-F643-45DF-9F27-B907C066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FE9A5-E31F-4AEE-ABEF-94AAD157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41386-6A18-41C3-8015-64BB73A7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F571B-6191-4061-A4A1-5ECA0CB9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12A89-4F48-4824-A6D2-A3640864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23DAE-AB9E-472F-9863-5A2559B8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311A7-EE58-4FB8-A3BC-7BFFED3E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01CF-4CCF-4624-85C4-ADFB505E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B686F-49F8-47E7-AAAE-EFCC4386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87A4F-3448-49D5-8654-65C88864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A6538-9CA9-4A49-A16E-BBE2AD32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012E2-97C5-47E6-A4AF-95160027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423BE-28BD-449E-B1CB-11F34EA2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8FC21-29C9-4143-BB90-67D35876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BADE6-2AA7-4CE1-97D6-160710B1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48B58-CA3F-40D3-9474-3B090CEA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24175-8425-4D27-A246-68DBF279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E8034-013C-46EB-9C82-E1E387A2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1395-31EA-4E10-9842-CE8E203A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24053-66B1-4030-8458-1583B796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D46B1-D173-4647-BB8E-FC828FEE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E6B6B-7B76-4F94-AE90-4E686F7D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C893F-5922-41F6-9183-6CA2740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210F5-1BB2-420A-9892-EE22FB02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9EDC8-7614-43D1-B067-12F925A9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4F320-4AAD-40FC-8986-9D0C9859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C477A2-41C8-4157-B3A8-7CF54A12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294BD-56FD-4A0C-B8FD-B292C88A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EE093-4971-4F71-9F7D-0DB2D6B6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B993-11D1-4816-984D-D502650D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01F79-D021-4B73-929F-D7E0D445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7D613-EB1F-4438-A7D3-7371EDB4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D510A-161A-4B0A-883C-43E10504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F37F41-91F3-42F3-A7F6-2C58A211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D634A-F445-48F0-8EB2-FB6FC651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6F785D-30ED-4998-8C7B-973E7E7B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7FEEC4-F9F6-4815-A9C8-5DF7849C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3DF35D-EAD0-4208-8081-516D9378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B914E-50AD-4143-9780-4A50D678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A841F-7845-45EA-BD9B-CFC1FF07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E52E-FF86-4DB8-9732-5F430475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FC697-1D55-4799-B8C3-4E34CAA2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D43D4-3D7A-4A73-B2BA-A2DAA749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7DE55-CE75-4C9A-99AF-B8B69292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82EEF-05AE-4D9F-8E71-D3216464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B429AD-E4FC-4FA9-9ACF-3A5B543E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A89C6-2E5E-405D-BC14-2CC8FEC7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B45723-AC50-4772-9E05-A3ADFA32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1DC4A3-9200-4F48-910F-0CE9DB72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91097-357A-40BE-81B6-00C3D701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C1652-F97D-4002-9C96-396A1CEE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CC13-61E0-4F4B-AABB-B52145D2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85AEC-7146-4993-BBD7-9DC34877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E37586-7836-491E-8A85-E37326F1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0A1BCC-8B66-4370-AEC1-91CE5EDC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9884BD-B234-4EF0-AD1D-747B8881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9C8C87-2075-4DEA-9E78-94B48EB6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03D0D4-53B8-4463-968F-494CA44C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96A0BB-B9C5-4745-9F4D-FC743AB1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D27BA6-62AE-4702-A2CB-761DA7C4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124FFF-8F53-49A6-9B58-5C964036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EE972-6839-405B-B615-54FD9D04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BE31-AE62-42D5-BF69-0D765CC2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F29134-CB2C-4497-A900-BAF5C1BF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9BD18D-5AE1-404C-9E00-4E6319B3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DCC0B-A6E9-416C-805D-BD709028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02A316-1DC8-4C45-9716-FFC03B71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F40C1-5CD1-4A69-8737-0D76981F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6E8981-0207-4C1D-831E-88402EC0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C31DD-EAC4-4372-8182-C462115A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0BFE8-866E-4FCA-AAF2-30823C2F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E54271-C411-48AF-8669-788E0D30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3EA57-39F8-4747-88E4-A5908F75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99E-C0B4-4738-B1E4-0BC16987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B7F1-AEF1-4359-B8DB-949BEB28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CC0554-1BCE-4A61-A967-01E6B4EB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CB214B-EB70-43EF-AC93-66533507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0D07CF-8818-4A20-A16D-C22A6B56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5AD05-7CC3-4A43-A595-0467104C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6A540D-CEFE-4A3E-9443-B5054982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228D1B-32FE-450E-B81B-320D4EB4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1D772C-4B96-4B64-9F6B-7F11DD41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2EE9E1-EAC9-4D2A-8DFD-AC41F9FE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3C30D2-B17D-4A62-A6E7-94E337F2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7C79C2-14DE-49AB-A18F-24B89EC4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1810-9184-4F37-A63F-82255567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41FB9B-C295-4A2A-BA99-7D69ADBE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DAED4A-AB44-46A1-977D-C551F7E2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14497F-5316-4A6C-87C7-16564FD4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DC824C-0424-4F6D-8E1D-F9BC3BFB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AD16BA-9E79-4C6C-AE98-F2F13FD8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8DE67C-F2AB-467F-9DB5-A6747337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2401E-7059-467C-8106-306C0D4C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FC42EB-5789-444D-B807-BF163CF1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D52876-AF70-457B-B2ED-66540A1F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13B82A-13DE-4882-9C7C-7CDCC1EF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86E0-168B-4400-9FA3-FAA92736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691B14-651D-4DA1-BA2D-EDEA8DCE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1BF076-63C4-400C-8844-6A55F9F9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E31C37-E42D-4753-BA6D-9EA20921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57AA54-0E18-4E49-826F-EFAF744C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600BC5-8D65-4847-8D50-56C38869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7B5205-0531-4F79-8A47-83810ADA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F58C8-43C9-421C-B0E8-474359AD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C2FFE5-EBD7-43EB-B295-B9526F4A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759490-5CB7-4CD9-B8CA-89963CF2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35E894-8280-45A1-BFC5-9E2E9C16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3EE7-0273-4BAA-97CD-70219A68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6D0673-C1E5-4E2C-B358-5F7AB047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04711-C7F8-4C05-ABEE-4DE46F4A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900A89-1111-448A-B7ED-DB164913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921BBA-1A09-4E77-9EAE-7AD64EDB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0FFCFC-EFDD-4CDC-A787-5F5933F1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5F8238-379B-4943-9D91-1FEB4824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507755-7F1B-4F7B-BD09-36F8FA7B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F43D77-F684-4043-995D-DA156F07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F96A37-A9AE-40DF-8561-46EDC377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318629-9AE3-42F8-B985-58603B79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F392-5878-4C55-97A6-D879B2A6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CC7641-A90A-40AF-A8FA-759EE83B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7DE4C1-1893-4421-BF6B-67E62889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699313-08B8-47A0-BBB6-DA66F22B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10A4F8-B73A-4B04-B956-F5589DD5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9FEDD5-DE4E-487A-8D44-E2BC6E2C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7E9E8E-40FA-492D-8CEB-F7DDE0E6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A4BE58-CB4A-49EE-BD69-AE2130B9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4EB384-AFAA-46FD-A9EC-0542DAC2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101998-9778-460B-AE4E-8CE97A63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4FB904-D8CD-4088-9A13-3FF86386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77C61-2C90-4834-9297-BEA69373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877E2F-B2AE-4EDF-9AC4-C8695B7B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0C26B8-F36B-4AB4-B3B7-998FD3D0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FD9C8F-8ADE-4CF0-A17E-CFDD2EFA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D31738-0D92-4D16-AE0F-A1CF237E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32E38C-D233-4C60-B8AF-3BE8C655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70912F-B862-4136-8F4E-2CAA6A9F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6BAA2E-5E93-4A16-B72A-FBAA54D9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61B7C4-174C-42D9-B251-5C3998F7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251DFB-1A14-4E2B-8E12-634BBFD1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28E24E-13B4-4696-86B3-C10A0AD7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A5FBE-3B79-46CA-9BF4-F8E2B6C2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9F2143-ECAB-4A8D-B638-6EE0E8FC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516D35-02F8-4E6F-AB93-2F5616E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BD4D9C-91B0-4B69-A868-549F2F3E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36AE04-B2F3-4D3B-9245-8CA84A63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3C03F8-599C-448F-ACF0-EFD4119A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DD10AD-CFF0-4084-AB1C-85362D71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D5A061-FF94-4B21-930B-6914CE6A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029B29-7526-4872-ADF0-EE4FDBE2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D9FC69-7D1C-47D9-823E-6A7B56FC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898737-61D5-4ADA-80CF-1202C1D5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D963-47DA-47F9-8BF1-9E8E72BA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0F7B37-6C45-4069-B055-FD15839F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84F856-88EE-42B6-BA5A-CF491EEC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47584A-3D68-4A9D-A2F1-2EEB6951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6BD7DA-CC3C-48A8-82D4-9085EB6D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9286AB-3FB8-4E97-A752-2CBF155A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6549D0-E65C-425D-8052-B47160E2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441B4D-B74E-4DBE-B79C-214A62C9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A317BD-37CA-484E-B70A-CA602446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EE2BC2-DFA4-4F47-8251-E54FB121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4128B0-D5A4-472D-A8C4-6827452C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80B3-7E4F-44E4-8A47-6FCEF9BA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3F46A5-2CB4-46F2-9AB4-E7007620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255E28-5EC5-4196-BBA1-895CE492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DBD403-26D2-4750-A265-A51A738D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7B0095-B1C7-489B-A937-975C4AC1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A5C9A5-A907-4A8A-B982-7791C0D4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5DFCD0-1F61-4BAC-A739-04862ECD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9E9F2A-856A-4CAF-94B4-5879ECB6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4489FB-F80F-45C7-BA29-EE030CFA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011049-A598-46E9-B5C7-2269AB01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6BA3F3-2282-4FF8-B425-054730C0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D6FF2-D3E5-48DA-8AC6-351E45CA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FD8FED-98AB-4997-824F-22060247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2D79B6-C046-4C3D-B071-AA1A8CFF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961E34-9DA7-4C3B-8FE1-1F71AFC4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C02C1F-B6A6-4F97-8C44-6E4AF3CF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D7518B-C337-4D5D-B458-5B51CD19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1D38EE-7464-4D00-A167-D69E3540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B4AB78-EA10-4D95-8738-ECFFAA1A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E1CD55-437A-4344-89EE-FEDDCFBB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164140-E6AB-4893-B40F-2D8B997B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17F180-C2E6-4429-85E5-00AD5DCE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A00-6D8C-4AE0-B46E-6CC2362D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93ECD-2CDA-4100-8233-1464AC72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D72C43-9E45-4B99-A6B9-4455AD96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52B019-C9EC-4A1D-B276-FCDB83B2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572FD7-D126-4E54-A070-A7CAC14C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97AB19-593D-43BE-982C-C0B3FACE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FF5275-5C32-4551-8A09-100914B9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FFA5C1-BD0D-4E5C-ACF3-E2C33D16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1A30F7-A6F9-4B0A-A56B-02ABD491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5DD9B4-F122-4BCB-AE69-465A25B7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574CB7-F094-4555-AA0D-245E9985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8D722B-EFB0-4BA0-A184-5C3E11E9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458AE-45B9-4AD4-AF5B-AAD66045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71C954-7C11-46B3-A8CF-B2D5641A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274C32-5BE1-47CA-AE1D-5BD8E94C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B60603-D96C-43A5-A60B-69AE5436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CB50D6-AE4C-4FAD-91DD-73016A42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9AC8B2-5F24-4BB7-9E73-76B51D6C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1B1699-161B-4545-A6BA-7D8658BE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657FA6-2FC5-4C52-93C6-E382E1E6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547200-C518-4ED1-A39F-786502D6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89BFAB-A451-4383-BA0B-557F35D2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62FE72-0197-4210-B298-6C6FB633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BD539-4F95-4947-B3EF-2563CB01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01E8F7-6B49-4709-94D8-C9A3BAE7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B82EE4-F424-4AA8-A788-8386F831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31F305-C5E8-4E6E-9604-FA0ECE83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E27148-63B1-439F-9133-DD2F5282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257786-FA0B-42CC-900C-E881824B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9A325A-0670-4E5A-95D3-BEB4568B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F61EFD-59CD-4AFE-8909-5E7CE8E7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6D4B50-8DC7-4789-8E26-D1829690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DAC2B3-6C05-4864-BA40-C291BEE2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091223-47D5-45DB-8697-C16FCCB4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91353-77A3-4B06-A8FE-42EA5F4C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B43C73-3A4A-4FF4-BE10-99C03275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95FC57-2CA5-403B-9327-E28920B8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F78574-6474-41CE-ACD5-818B6083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C53F62-2FD3-4F03-A7CC-2DCB7B2E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A05951-954F-4EB2-A758-60CE99FF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8A91DC-25A1-4F59-831D-E0DD0DF9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CE8D46-22BC-48B8-95EB-23037634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C55F86-08C6-4FF8-9455-0B9005AE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C1EEEC-E0F1-4C03-94CD-E017266D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D622BE-5E47-4125-9EAF-F419E91C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F2E68-AF7A-4D47-A638-9F4A68AB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F252D6-9497-4499-8C8E-B577A3CC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FA40F5-748C-4E48-A2B2-3DBACAF2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F7D193-8ED6-4727-8834-58D70737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A41E6B-7038-4E76-A6E9-2BE61505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3D73C9-A17B-4054-9A75-C8A8DBDB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641BE7-969E-441D-B6F7-699D3F5E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C45AEE-853B-45A9-9DDE-D3330DDC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C7B8FB-9CD8-4D90-B121-4E43EC00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4C989B-D30A-4736-ABB2-F37DBC05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FBA7BB-FF5E-4DAE-B5D9-A53DB793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78FF-28A8-4C3D-A4B3-98C4DFC1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7811C6-E7D3-4975-9727-87396BE6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69DF31-E5E3-4A87-8E56-93C7890E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A25843-8C13-4C18-90C9-4EE0005E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CCBF96-AB51-4136-9B1F-7A118C95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FF19A7-8C5B-4298-AA02-79CE8888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AF4B5C-FC35-4D7A-B901-517EDAD0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382030-BA7C-4496-A419-646AA9D7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574AB8-ED2A-446C-80E4-43468B23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1B478A-078D-4907-AD3D-F369CDA6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09C99B-7D42-4D61-B97F-B06B466D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4DF2-50C4-492E-A086-C01E4E57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B7671F-C2FF-4E8F-A62F-FE5E49FB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71FE39-2983-427C-84B3-0C2F37B0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83AF5D-DDCB-4F47-90D6-6145A97E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2B83C3-6EB8-42F8-8145-9B756DD0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45BD89-0DBB-4030-81EA-F0EFF9F2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02893B-2010-4249-B143-C2E82D45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B200FA-1EA8-46D7-9F67-36275B5F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959ACC-63B7-44A4-B35C-327CE975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3F3D11-5745-415B-9E81-58CD579E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270166-4FAE-4E17-A0B5-9B1F8A45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ED770-4D3F-4980-B577-AE5EAF1F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D8F267-01EC-4F1E-8219-238DD7E5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BFFCEC-C21D-4DF8-B74A-C0C738D9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90A441-92D1-4066-AFEF-C86A6BED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B77E1-E4DC-45C5-8A61-01FF96C8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EB813-951C-4160-9526-09DC4B3C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57A-5F94-4725-95A5-194227E9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E0621-8480-4875-A666-3E94E2E0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8D975-D5B2-4EFC-AD5F-1959776B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28EE3-FD07-4096-AAF5-9593668C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A876-7CF3-44A1-B15B-366576C5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C6512-EE84-4D1F-826A-3F2F308C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102BF-0AC1-4287-8C6B-E2BA9645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EE888-7B7A-4FAF-BECD-5E725633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5B24-F9C9-4CC3-836F-D8BDB449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8C286-B2E5-4057-A56A-C77E0D3A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36A2F-D84F-4BF4-99C9-B089B436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C91-26A0-4CF1-9633-9A532576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84A65-F0A3-42AD-BC3C-AE675BD0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CD55D-550B-46F9-A630-5A6E1F63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F1489-F1D7-4225-80B5-6CB98F94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381A7-9D37-4412-B248-9A2B5341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4F106-D9A2-470F-B0F0-25C95E31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293C2-1FD1-41FA-AC47-81A981B0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FF20A-E47C-4AAE-B1C4-B16ECF83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5315B-7B37-4C46-B35D-8A7B1DE1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3FA2-994A-4110-8B2B-87BB8D9A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96519-3D00-4DC8-81AB-FF1257C4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A8F-4E7A-45E6-8EEA-C7C26D1D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306C0-CBFD-4B5B-960B-52DB48E8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EF2D7-6B15-4EF1-9AFD-E59E8A10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5B800-0F55-4C7F-97C4-1A6D7774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EA4BE-A083-4948-8D34-C412255A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B429F-2472-407C-B260-E8D341C0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65DE9-EC24-4569-A45F-FA1B44D2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52B8C-AA05-4C52-93CE-48A911F6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B1D95-D958-4AE2-B7A9-07185C30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C102A-94DB-46FF-95A7-A0602DD5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B3365-1FA6-4503-BB80-FCB7DD0F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03E-A686-4B2E-8404-58F61D8B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F604C-C6FC-4401-87D8-4CD8C131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F2158-698E-4AD0-9FB2-8D848630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675F6-FC05-47F8-959F-846E3781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BB038-114C-4C15-93AA-5D302486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93F47-885C-44E5-B487-91E1FFBA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2A3C2-5AF6-4D1A-801A-4A5194BD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0360B-4266-436D-A615-00A22198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6E7E5-9F6C-4032-8769-F58745A0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23CA4-C491-49A8-8BF0-2023494C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CCDCC-0485-4C2C-846B-A5DD53CA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78F1-62BA-44EE-A65C-3B628305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45747-E103-4A18-A4BA-A7EC2091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62744-0F5F-4FB1-9A8E-D4C9C806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BEA27-4882-44A1-B814-F04A1482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2DF8E-CECF-4DDB-9D6A-46A6B228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4CCD3-C288-4B1D-AA00-50DC04E5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FECAF-83E9-4313-938F-CBE1CA42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F0D16-B882-4809-BDCF-FA99D60C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3404D-30C5-4FBE-BE81-C811ADA9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9EE94-5C62-4F9C-9D89-8E615225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6AE37-D635-4683-AAC3-096FB957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E23-9C26-48C6-832B-E0EB4CB6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7BF22-2323-4C5B-8F72-BB7B1F92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0668F-DC12-4072-BD66-D4FD7466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103E2-D677-4504-AD51-679F9275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2DA3C-976B-4FE2-94E4-04BBBB9C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62B47-7496-499C-A8D7-5B94EC6C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CF3A5-9BE7-414D-A15F-8B6BF008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10273-85B4-44F3-8E23-2BD13AB3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8CD4F-9C57-45B7-99DA-D0D0EDEE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E3328-6753-4BA4-AB26-9F2CCC71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40F45-A47B-4154-977B-8E1605D1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BEDA-9348-4696-AF44-ED98F84958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8EB4-6B1D-46F2-BF66-865900778A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5D3C-034A-4095-BFF6-BBDAA0305D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AD35-80D5-4F75-AF4F-DD8ECD5D32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260A-58A9-4CEE-979D-343AB2B7ED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A9D1-47ED-49FD-8FCD-025BAB84A9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670D-38D2-4002-8767-51272DB52A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556D-CB29-4122-8960-76D2BD628B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EAD1-BF2E-42E8-A0A4-C237D4F76B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4524-DC1B-4EAC-A012-F20CDCE4F0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C7CA-7DBD-4C6A-90FF-A5F001F908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ECA1-476E-4BAC-B7E7-8503BD60E6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2EF8-D1CC-4484-BA28-E25D6EA361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3D19-14B9-4777-8586-2B98B8533B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D937-14E0-4CB5-A410-BEEC300C72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E4B4-8651-4B92-B5E8-B5677C38BC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6AE8-78E0-400C-B1A0-2D91770448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9271-DCC4-4DA5-B51C-4F4CCD0FC3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9492-B4C4-464A-B9D9-82595EF81A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4AB8-86BA-4659-86F2-D43FE141D7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79AD-B56E-45F3-92CF-28231095B5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922F-C3C0-4B17-B75A-DAC62A50B7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EF7E-C3F7-4C91-866E-9F099D90A5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28B7-196B-4F59-8556-53AD5BB7DB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3EC3-0BE1-488B-8A14-3BF24087AC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0F3A-6699-41C9-BA9F-725504CF34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6130-DAB0-4260-9928-88F241E23E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F164-3715-411B-A9ED-0619A91F17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9E36-AE59-460E-94C7-C6258EA8F4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CC7E-79A2-44A7-8144-C807386DFE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79C9-B7F3-48C1-8AEB-FB97D5F65D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3618-7A05-4DD7-A55A-7DB54BF859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4602-A580-40C9-898F-906B49E085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F368-38BC-4A97-871E-BF1258A884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2A71-9E23-4680-81D0-DBE82E9425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A37E-7A9E-4D1F-A144-A9270A9D07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F02E-4B29-4B9C-8947-2E5FC25EBB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BE68-C4A5-44C6-A6C4-0040CD5D94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7ECA-BD30-4690-8A45-EBF21E1891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25B0-751E-436D-9397-960A5C3E6F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3992-50C0-4227-9B8B-31840EEAC2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8CA3-5143-4318-9601-6BB75E09B2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60BB-6413-4963-B948-32F4459A37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9868-CB1C-4CF1-BCB0-EDA1A50E1F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3284-6774-4EFE-BB79-FA663235BE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E85A-237D-4C92-9B44-16811192CC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5F3F-77DB-4C13-B93D-4B6116070E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3CBE-98D9-4B13-92EA-6B49053EAB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A387-66D0-4073-B14F-EE64E5FB3E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DABE-E670-4F90-9073-0EF04E962D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858000" cy="131436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1457280" y="3019320"/>
            <a:ext cx="6229440" cy="819360"/>
          </a:xfrm>
          <a:prstGeom prst="rect">
            <a:avLst/>
          </a:prstGeom>
          <a:ln w="0">
            <a:noFill/>
          </a:ln>
        </p:spPr>
      </p:pic>
      <p:pic>
        <p:nvPicPr>
          <p:cNvPr id="1333" name="图片 40986" descr=""/>
          <p:cNvPicPr/>
          <p:nvPr/>
        </p:nvPicPr>
        <p:blipFill>
          <a:blip r:embed="rId3"/>
          <a:stretch/>
        </p:blipFill>
        <p:spPr>
          <a:xfrm>
            <a:off x="122400" y="4130640"/>
            <a:ext cx="5495760" cy="2610000"/>
          </a:xfrm>
          <a:prstGeom prst="rect">
            <a:avLst/>
          </a:prstGeom>
          <a:ln w="0">
            <a:noFill/>
          </a:ln>
        </p:spPr>
      </p:pic>
      <p:sp>
        <p:nvSpPr>
          <p:cNvPr id="1334" name="矩形 40987"/>
          <p:cNvSpPr/>
          <p:nvPr/>
        </p:nvSpPr>
        <p:spPr>
          <a:xfrm>
            <a:off x="627120" y="5527800"/>
            <a:ext cx="458316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1735200" y="6402240"/>
            <a:ext cx="8031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图片 140289" descr=""/>
          <p:cNvPicPr/>
          <p:nvPr/>
        </p:nvPicPr>
        <p:blipFill>
          <a:blip r:embed="rId1"/>
          <a:stretch/>
        </p:blipFill>
        <p:spPr>
          <a:xfrm>
            <a:off x="719280" y="906480"/>
            <a:ext cx="5876640" cy="4638600"/>
          </a:xfrm>
          <a:prstGeom prst="rect">
            <a:avLst/>
          </a:prstGeom>
          <a:ln w="0">
            <a:noFill/>
          </a:ln>
        </p:spPr>
      </p:pic>
      <p:sp>
        <p:nvSpPr>
          <p:cNvPr id="1337" name="矩形 140290"/>
          <p:cNvSpPr/>
          <p:nvPr/>
        </p:nvSpPr>
        <p:spPr>
          <a:xfrm>
            <a:off x="625320" y="1787400"/>
            <a:ext cx="4921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1"/>
          <p:cNvSpPr/>
          <p:nvPr/>
        </p:nvSpPr>
        <p:spPr>
          <a:xfrm>
            <a:off x="790560" y="2281320"/>
            <a:ext cx="4921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2"/>
          <p:cNvSpPr/>
          <p:nvPr/>
        </p:nvSpPr>
        <p:spPr>
          <a:xfrm>
            <a:off x="482760" y="4162320"/>
            <a:ext cx="5506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3"/>
          <p:cNvSpPr/>
          <p:nvPr/>
        </p:nvSpPr>
        <p:spPr>
          <a:xfrm>
            <a:off x="1581120" y="4665600"/>
            <a:ext cx="3421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4"/>
          <p:cNvSpPr/>
          <p:nvPr/>
        </p:nvSpPr>
        <p:spPr>
          <a:xfrm>
            <a:off x="1622520" y="5180040"/>
            <a:ext cx="342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图片 139265" descr=""/>
          <p:cNvPicPr/>
          <p:nvPr/>
        </p:nvPicPr>
        <p:blipFill>
          <a:blip r:embed="rId1"/>
          <a:stretch/>
        </p:blipFill>
        <p:spPr>
          <a:xfrm>
            <a:off x="716040" y="930240"/>
            <a:ext cx="5705280" cy="3143160"/>
          </a:xfrm>
          <a:prstGeom prst="rect">
            <a:avLst/>
          </a:prstGeom>
          <a:ln w="0">
            <a:noFill/>
          </a:ln>
        </p:spPr>
      </p:pic>
      <p:sp>
        <p:nvSpPr>
          <p:cNvPr id="1343" name="矩形 139266"/>
          <p:cNvSpPr/>
          <p:nvPr/>
        </p:nvSpPr>
        <p:spPr>
          <a:xfrm>
            <a:off x="544680" y="1757520"/>
            <a:ext cx="5630760" cy="7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39267"/>
          <p:cNvSpPr/>
          <p:nvPr/>
        </p:nvSpPr>
        <p:spPr>
          <a:xfrm>
            <a:off x="1849320" y="2660760"/>
            <a:ext cx="322596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39268"/>
          <p:cNvSpPr/>
          <p:nvPr/>
        </p:nvSpPr>
        <p:spPr>
          <a:xfrm>
            <a:off x="1839960" y="3193920"/>
            <a:ext cx="3225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39269"/>
          <p:cNvSpPr/>
          <p:nvPr/>
        </p:nvSpPr>
        <p:spPr>
          <a:xfrm>
            <a:off x="1819440" y="3676680"/>
            <a:ext cx="3225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图片 138241" descr=""/>
          <p:cNvPicPr/>
          <p:nvPr/>
        </p:nvPicPr>
        <p:blipFill>
          <a:blip r:embed="rId1"/>
          <a:stretch/>
        </p:blipFill>
        <p:spPr>
          <a:xfrm>
            <a:off x="158760" y="434880"/>
            <a:ext cx="7581960" cy="6419880"/>
          </a:xfrm>
          <a:prstGeom prst="rect">
            <a:avLst/>
          </a:prstGeom>
          <a:ln w="0">
            <a:noFill/>
          </a:ln>
        </p:spPr>
      </p:pic>
      <p:sp>
        <p:nvSpPr>
          <p:cNvPr id="1348" name="矩形 138242"/>
          <p:cNvSpPr/>
          <p:nvPr/>
        </p:nvSpPr>
        <p:spPr>
          <a:xfrm>
            <a:off x="142920" y="2076480"/>
            <a:ext cx="772632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8243"/>
          <p:cNvSpPr/>
          <p:nvPr/>
        </p:nvSpPr>
        <p:spPr>
          <a:xfrm>
            <a:off x="1006560" y="3000240"/>
            <a:ext cx="655488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8244"/>
          <p:cNvSpPr/>
          <p:nvPr/>
        </p:nvSpPr>
        <p:spPr>
          <a:xfrm>
            <a:off x="1201680" y="3832200"/>
            <a:ext cx="655488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8245"/>
          <p:cNvSpPr/>
          <p:nvPr/>
        </p:nvSpPr>
        <p:spPr>
          <a:xfrm>
            <a:off x="1314360" y="4714920"/>
            <a:ext cx="655488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8246"/>
          <p:cNvSpPr/>
          <p:nvPr/>
        </p:nvSpPr>
        <p:spPr>
          <a:xfrm>
            <a:off x="1346040" y="5608800"/>
            <a:ext cx="2979720" cy="76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8247"/>
          <p:cNvSpPr/>
          <p:nvPr/>
        </p:nvSpPr>
        <p:spPr>
          <a:xfrm>
            <a:off x="1406520" y="6524640"/>
            <a:ext cx="72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37217" descr=""/>
          <p:cNvPicPr/>
          <p:nvPr/>
        </p:nvPicPr>
        <p:blipFill>
          <a:blip r:embed="rId1"/>
          <a:stretch/>
        </p:blipFill>
        <p:spPr>
          <a:xfrm>
            <a:off x="633240" y="912960"/>
            <a:ext cx="6963120" cy="2162160"/>
          </a:xfrm>
          <a:prstGeom prst="rect">
            <a:avLst/>
          </a:prstGeom>
          <a:ln w="0">
            <a:noFill/>
          </a:ln>
        </p:spPr>
      </p:pic>
      <p:sp>
        <p:nvSpPr>
          <p:cNvPr id="1355" name="矩形 137218"/>
          <p:cNvSpPr/>
          <p:nvPr/>
        </p:nvSpPr>
        <p:spPr>
          <a:xfrm>
            <a:off x="666720" y="1757520"/>
            <a:ext cx="6370560" cy="687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7219"/>
          <p:cNvSpPr/>
          <p:nvPr/>
        </p:nvSpPr>
        <p:spPr>
          <a:xfrm>
            <a:off x="1973160" y="2598840"/>
            <a:ext cx="13161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7" name="图片 136193" descr=""/>
          <p:cNvPicPr/>
          <p:nvPr/>
        </p:nvPicPr>
        <p:blipFill>
          <a:blip r:embed="rId1"/>
          <a:stretch/>
        </p:blipFill>
        <p:spPr>
          <a:xfrm>
            <a:off x="557280" y="795240"/>
            <a:ext cx="7724880" cy="5038920"/>
          </a:xfrm>
          <a:prstGeom prst="rect">
            <a:avLst/>
          </a:prstGeom>
          <a:ln w="0">
            <a:noFill/>
          </a:ln>
        </p:spPr>
      </p:pic>
      <p:sp>
        <p:nvSpPr>
          <p:cNvPr id="1358" name="矩形 136194"/>
          <p:cNvSpPr/>
          <p:nvPr/>
        </p:nvSpPr>
        <p:spPr>
          <a:xfrm>
            <a:off x="657360" y="2301840"/>
            <a:ext cx="717228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6195"/>
          <p:cNvSpPr/>
          <p:nvPr/>
        </p:nvSpPr>
        <p:spPr>
          <a:xfrm>
            <a:off x="781200" y="3124080"/>
            <a:ext cx="7172280" cy="6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6196"/>
          <p:cNvSpPr/>
          <p:nvPr/>
        </p:nvSpPr>
        <p:spPr>
          <a:xfrm>
            <a:off x="976320" y="4079880"/>
            <a:ext cx="717228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6197"/>
          <p:cNvSpPr/>
          <p:nvPr/>
        </p:nvSpPr>
        <p:spPr>
          <a:xfrm>
            <a:off x="1930320" y="4923000"/>
            <a:ext cx="3257640" cy="37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6198"/>
          <p:cNvSpPr/>
          <p:nvPr/>
        </p:nvSpPr>
        <p:spPr>
          <a:xfrm>
            <a:off x="1838160" y="5415120"/>
            <a:ext cx="3257640" cy="37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图片 135169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762680" cy="3029040"/>
          </a:xfrm>
          <a:prstGeom prst="rect">
            <a:avLst/>
          </a:prstGeom>
          <a:ln w="0">
            <a:noFill/>
          </a:ln>
        </p:spPr>
      </p:pic>
      <p:sp>
        <p:nvSpPr>
          <p:cNvPr id="1364" name="矩形 135170"/>
          <p:cNvSpPr/>
          <p:nvPr/>
        </p:nvSpPr>
        <p:spPr>
          <a:xfrm>
            <a:off x="770040" y="2744640"/>
            <a:ext cx="587844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5171"/>
          <p:cNvSpPr/>
          <p:nvPr/>
        </p:nvSpPr>
        <p:spPr>
          <a:xfrm>
            <a:off x="1982880" y="3637080"/>
            <a:ext cx="1141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图片 134145" descr=""/>
          <p:cNvPicPr/>
          <p:nvPr/>
        </p:nvPicPr>
        <p:blipFill>
          <a:blip r:embed="rId1"/>
          <a:stretch/>
        </p:blipFill>
        <p:spPr>
          <a:xfrm>
            <a:off x="270000" y="947880"/>
            <a:ext cx="8096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3121" descr=""/>
          <p:cNvPicPr/>
          <p:nvPr/>
        </p:nvPicPr>
        <p:blipFill>
          <a:blip r:embed="rId1"/>
          <a:stretch/>
        </p:blipFill>
        <p:spPr>
          <a:xfrm>
            <a:off x="781200" y="855720"/>
            <a:ext cx="6972120" cy="456228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3122"/>
          <p:cNvSpPr/>
          <p:nvPr/>
        </p:nvSpPr>
        <p:spPr>
          <a:xfrm>
            <a:off x="770040" y="831960"/>
            <a:ext cx="60516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3123"/>
          <p:cNvSpPr/>
          <p:nvPr/>
        </p:nvSpPr>
        <p:spPr>
          <a:xfrm>
            <a:off x="719280" y="1714680"/>
            <a:ext cx="6051240" cy="73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3124"/>
          <p:cNvSpPr/>
          <p:nvPr/>
        </p:nvSpPr>
        <p:spPr>
          <a:xfrm>
            <a:off x="863640" y="2587680"/>
            <a:ext cx="60516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3125"/>
          <p:cNvSpPr/>
          <p:nvPr/>
        </p:nvSpPr>
        <p:spPr>
          <a:xfrm>
            <a:off x="965160" y="3492360"/>
            <a:ext cx="91440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3126"/>
          <p:cNvSpPr/>
          <p:nvPr/>
        </p:nvSpPr>
        <p:spPr>
          <a:xfrm>
            <a:off x="933480" y="3975120"/>
            <a:ext cx="684216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3127"/>
          <p:cNvSpPr/>
          <p:nvPr/>
        </p:nvSpPr>
        <p:spPr>
          <a:xfrm>
            <a:off x="901800" y="4519440"/>
            <a:ext cx="684216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3128"/>
          <p:cNvSpPr/>
          <p:nvPr/>
        </p:nvSpPr>
        <p:spPr>
          <a:xfrm>
            <a:off x="901800" y="4950000"/>
            <a:ext cx="684216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9:39:05Z</dcterms:modified>
  <cp:revision>6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